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E09-02D6-4C58-8037-B879E3CE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F79-78F2-4601-B43E-0EDF0BE6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BC2-BA2F-4524-89EE-F8A0E9D5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27D-8445-4DD0-A798-A56335D5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48BA-7020-4410-8DC2-8F2A5D37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A75-2DC0-4545-AE0A-4FAF1E40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6751-F830-47DB-916A-B0D86860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E863-BCF1-42BC-B38A-0E5F472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6EDF-2AAF-499E-86EF-CDDAC57F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044F-22ED-4C41-A662-62EF09C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1E26-78B2-42DE-BB18-C8470F6C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1B9-1307-4FC7-B93B-F1BED0E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43A9-DD86-4161-8242-E23DB98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1B8-DD9C-4DCC-99E4-209F701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FB1C-6585-403C-8CBC-6BC303E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F434-2EAB-47C5-AC2B-EAC312BD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D3F-8FEC-4166-9ADB-DB2A6637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4D40-4FB7-400B-BEF4-384285BC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8BCC-CCA0-4E1C-A19E-F761418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5667-9D2A-4CD2-85B8-33F4ED2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F12D-57F9-436B-BB50-5792D14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A2B9-C99F-45DA-BA37-73FCCA0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9F0-3FD9-4054-8B99-D0704010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941D-A358-40F5-9C76-4C002CC0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D763-99A0-48AC-8AE5-0457D21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6DF9-75EB-4238-A653-A44B19B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4DF1-E49B-4184-8C25-93368F7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493D-CC0B-40FE-B6F6-4A5C937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20A4-D0C8-401B-B97D-34151B5D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ED0D-1749-4316-B626-D68C511D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EAAE-29E9-40E5-AB43-38F490CF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3A52-8D6E-4D47-B0AC-8889343B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5938-DB32-47E3-9775-D421B3E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326-8A95-4FD9-86DC-FE9EAA5A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9AFB-4B72-4825-AC37-C644EBE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A865-8D9C-4CB7-B3B3-1A867AA1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CBCA6-B7C5-4869-B439-73A0829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FA3C-2018-455B-8DF0-5AF9B54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F2CB-9CBB-4C6A-AE27-EE7DF91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2C26-52D3-4B61-91FE-0C98CE7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ED9F-481D-4906-BC2B-6DB9F44E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6342-F27B-475D-AEB9-64F8AC2B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22F8-154A-4E83-BCCB-98019CFB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04E2-2BBB-465A-93BF-7ED368DF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BD3-8D02-430D-85B8-33408E69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90BC3-1297-425F-B895-C56E841D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FA79-501A-49DC-B665-1F3D6CF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70E7-AD4A-409D-8C80-4D64F04E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DD1E2-D061-4541-ABF4-BF0C1DF5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D1F06-FC74-41D5-A106-0D964851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1BD55-D012-4CCD-ABB1-338F5AD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9794-EDE7-4D02-8EEA-1BB748B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29C4-9BB5-4D4C-BD8A-7D17A34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2478-FE5C-4074-99F0-FC8FD697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BD6C-AD6D-4109-9CBE-1EE29930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5C1-272A-4FAE-8084-053B4636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1F8B8-355A-4A18-A92A-CB823DFB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4DD-12C9-4F6E-A5CB-BF1666D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BCF-0E2B-414D-A366-EF9E6ED1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1DE-F20A-4055-ABE5-216C490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C55C-3AAE-4E4A-8600-9A74A77584A5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EFD-7B38-407A-B324-B83761C9909B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DB3B-7BC8-4369-8E96-DC64BFFD2835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4916-DFDD-4BA9-8573-930F90D82030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78B-4A63-4F01-B1D2-0BC9516B411C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2EEA-4126-4B63-AD08-8F396DE98E00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E465-15DE-4F77-A274-ED1E55307A39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2FD5-993E-4A70-A2C9-A0BF4365D744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4D5-B618-41F7-846A-615E51D2B080}" type="datetime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BE97-6960-4FEF-BD26-D38A75FDEA94}" type="slidenum">
              <a:rPr b="0" lang="en-US" sz="1000" spc="-1" strike="noStrike">
                <a:solidFill>
                  <a:srgbClr val="222222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Lucida Sans Unicode"/>
              </a:rPr>
              <a:t>The Minister’s Black Veil</a:t>
            </a:r>
            <a:endParaRPr b="1" lang="en-US" sz="45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Lucida Sans Unicode"/>
              </a:rPr>
              <a:t>By Nathaniel Hawthor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540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Vocab, cont.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Ostentatious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characterized by vulgar or pretentious display; designed to impress or attract notic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Sagacious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aving or showing keen mental discernment and good judgment; shrew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Scrupled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esitate or be reluctant to do something that one thinks may be wro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Imp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 mischievous chil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Waggery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waggish behavior or remarks; joculari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Vagary 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n unexpected and inexplicable change in a situation or in someone's behavior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Lest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with the intention of preventing (something undesirable); to avoid the risk of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Torpor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 state of physical or mental inactivity; letharg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Piety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the quality of being religious or rever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Mitigate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make less severe, serious, or painfu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Pious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voutly religiou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Lucida Sans Unicode"/>
              </a:rPr>
              <a:t>Hoary</a:t>
            </a:r>
            <a:r>
              <a:rPr b="1" lang="en-US" sz="20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(of a person) having gray or white hair; ag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Prompt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 what ways do you wear a black veil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2913120" y="1219320"/>
            <a:ext cx="343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Setting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mall, old villa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1800’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urit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213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haracters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Reverend Hooper – main character and minister; wears black veil because he believes it symbolizes sin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Elizabeth – Hooper’s fiancée, until he refused to take off the veil in her presence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Reverend Mr. Clark – young minister from nearby town of Westbury who prays for Rev. Hooper at his deathbed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e Townspeople – highly religious &amp; nervous about the change in their minister; they both revere &amp; shun Rev. Hooper simultaneously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Brief Summary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verend Hooper was always known as a neat and orderly man, until one Sunday morning he arrived at the first service with a black veil covering his fac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he veil starts to isolate him from his companionships; one man who always invited to him to dinner, didn’t and his finance denies his marriage proposal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e wears his veil to the grave, and refuses to take it off even at the grav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Inspiration?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awthorne may have been inspired by a true event. A clergyman named Joseph Moody of York, Maine York, nicknamed "Handkerchief Moody", accidentally killed a friend when he was a young man and wore a black veil from the man's funeral until his own death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25146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Feedback &amp; Understanding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y do you think he was wearing the black veil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do you think the black veil symbolizes?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y do you think Mr. Hooper will not remove the veil, even as he is dying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do Father Hooper's final words say about his possible reasoning for wearing the veil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30243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Criticism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e called the work a ‘masterly composition,’ but suggested that only the most sensitive readers would be able to glean the true import of the narrative and see beyond the obvious moral of the story.”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Vocab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exton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person who looks after a church and churchyard, sometimes acting as bell-ringer and formerly as a gravedigger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Throng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large, densely packed crowd of people or animal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emblanc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outward appearance or apparent form of something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arson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beneficed member of the clergy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wath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wrap in several layers of fabric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arishioner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 inhabitant of a parish, esp. one who belongs to or attends a particular churc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erturbation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xiety; mental uneasines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Venerabl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orded a great deal of respect, esp. because of age, wisdom, or character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Ting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olor slightly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athos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quality that evokes pity or sadnes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Visag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person's facial expression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Indecorous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ilure to conform to good taste or etiquett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1b1b"/>
            </a:gs>
            <a:gs pos="100000">
              <a:srgbClr val="9a9a9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Lucida Sans Unicode"/>
              </a:rPr>
              <a:t>Vocab, cont.</a:t>
            </a:r>
            <a:endParaRPr b="1" lang="en-US" sz="3600" spc="-1" strike="noStrike">
              <a:solidFill>
                <a:srgbClr val="ff8d3e"/>
              </a:solidFill>
              <a:latin typeface="Lucida Sans Unicode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Impertinent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ot showing proper respect; rud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Err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- be mistaken or incorrect; make a mistake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miable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having or displaying a friendly and pleasant manner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bash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ause to feel embarrassed, disconcerted, or ashamed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Syno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 assembly of the clergy and sometimes also the laity in a diocese or other division of a particular churc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light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edge or promise solemnly (one's faith or loyalty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Take something amiss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e offended by something that is said, typically through misinterpreting the intentions behind it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ensively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ngaged in, involving, or reflecting deep or serious thought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Preternatural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eyond what is normal or natural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ntipathy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a deep-seated feeling of dislike; aversion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Intimated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mply or hint at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Lucida Sans Unicode"/>
              </a:rPr>
              <a:t>Ambiguity</a:t>
            </a: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 lack of decisiveness or commitment resulting from a failure to make a choice between alternatives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0:39:48Z</dcterms:created>
  <dc:creator>10thoenenmelinda</dc:creator>
  <dc:description/>
  <dc:language>en-US</dc:language>
  <cp:lastModifiedBy>VMS</cp:lastModifiedBy>
  <dcterms:modified xsi:type="dcterms:W3CDTF">2009-08-31T14:58:16Z</dcterms:modified>
  <cp:revision>30</cp:revision>
  <dc:subject/>
  <dc:title>The Minister’s Black Veil</dc:title>
</cp:coreProperties>
</file>